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01D-D35B-4F45-80DB-F548A1DF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E95-7293-456E-8A50-9AEE2D0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5D8-4C7B-4257-BBE7-2C8415CB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81C-9D6E-4555-A564-A07CE488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15A-E319-442D-9827-A340DB1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589-4401-45F0-BE16-545D3F58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D33-4409-4DAB-8BF8-C3F76295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FAA-4735-4C01-A022-E21E2740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FC5-3250-4F0F-BB07-1477313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EED-5496-4209-8CEA-7CE9EF5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F79-61A3-46FB-B36A-4B307B8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066-271E-4EB2-8940-5F81589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B97F3-D084-481D-B3A8-630EF8513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ture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299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ch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ould you like to come to our party tomorrow, Andr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r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nks for the invitation, but I’ve got lots of work at the moment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’ll be work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day tomor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ch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on’t be work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n Saturday evening, surely. Come on , Andrew, take a break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e’ll be start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t about en o’cl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ill be doing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 continuous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future action over a period of time. At some time in the future we will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the midd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rew can’t go to the party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’ll be work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ll be out at three o’clo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’ll be playing gol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n the men leave the building the polic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l be waitin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for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ture perfect tense expresses action in the fut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other action in the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call me at work at 8am. 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have arriv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office by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ill be tired when they arrive. The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 sle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Mary won't be at home when you arrive." "Really? Whe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 g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think of the future perfect tense like the present perfect tense, but instead of your viewpoint being in the present, it is in the futu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you think you will have finished it by next Thurs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5 years time I’ll have finished university and I’ll be able to earn some money at l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often use the future perfect with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or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think astronauts will have landed on Mars by the year 20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ll have finished in an hour and then you can use the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means ‘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 later than a particular 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means '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thin a period of 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. We don’t know exactly when something will fin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promise I’ll have done all the work by next Satu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kno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act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he will finish the work – maybe Thursday, maybe Friday – but definitely before Saturday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7:39:35Z</dcterms:created>
  <dc:creator>Paul Filippetto</dc:creator>
  <dc:description/>
  <dc:language>en-US</dc:language>
  <cp:lastModifiedBy>Paul Filippetto</cp:lastModifiedBy>
  <dcterms:modified xsi:type="dcterms:W3CDTF">2012-12-14T08:43:57Z</dcterms:modified>
  <cp:revision>6</cp:revision>
  <dc:subject/>
  <dc:title>Future continuous</dc:title>
</cp:coreProperties>
</file>